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C010E-F1BF-42FD-8CA5-A15B46F88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426B5-39B4-421C-9C53-86B5E7C32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7032B-DCE3-4D76-8A5D-BFF31013F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03364-F976-4576-B1CD-CE2100060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71946-0922-4BD6-8D01-2B2214DFD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BC00B-48C0-4D56-9DB0-DAD52F256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908FE-FC56-4DDD-BE74-D052E98DF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1C782-E112-4DF2-9E94-9E30EBBE7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9955E-525E-415B-860F-C77CA552E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A786B-CED1-40BF-9F80-6347E72A5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C15EE-0FED-498F-8751-E02D2C6F7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7735D-46C3-4D0E-99E5-CF7EB8847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1E5F8-1F7E-4BD2-A23B-E02E8477F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DC4D6-3CFF-40C3-BB73-4F0023E6F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CFFAC-6B28-40D0-8FD1-A3D3AF637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0CBED-2362-4159-A24E-7108217E9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A044A-1B51-4B56-B6C2-3C87DA8A5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147EE-6255-4630-83A9-0CEDC0227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CD0F7-3274-4907-B447-00824749F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32086-047F-4E08-BF3B-EC19CAE56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06BBF-5125-4E67-88EB-A7EBC91DB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9976F-F2BD-432B-86C0-B03E8C7DF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D90E2-A413-44C8-9A91-E662DD37A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8060F-33EA-4C9D-91AD-9A3FA6A8F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F5252-DAC0-4696-B4C5-ED7700EFA782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1A8DB-DF7B-4D51-A42E-EBD15663AA8F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5.jpeg"/><Relationship Id="rId8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La Casa del Luiz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r: Luiz Fagund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6000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Es una colección de carro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i colección de carros y bonit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0" y="4624560"/>
            <a:ext cx="3352680" cy="223344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3352680" y="4686480"/>
            <a:ext cx="2895840" cy="217152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6248520" y="5429160"/>
            <a:ext cx="1904760" cy="142884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4"/>
          <a:stretch/>
        </p:blipFill>
        <p:spPr>
          <a:xfrm>
            <a:off x="0" y="3352680"/>
            <a:ext cx="1447920" cy="120672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5"/>
          <a:stretch/>
        </p:blipFill>
        <p:spPr>
          <a:xfrm>
            <a:off x="1447920" y="3429000"/>
            <a:ext cx="1523880" cy="96984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6"/>
          <a:stretch/>
        </p:blipFill>
        <p:spPr>
          <a:xfrm>
            <a:off x="3352680" y="2971800"/>
            <a:ext cx="2971800" cy="222876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7"/>
          <a:stretch/>
        </p:blipFill>
        <p:spPr>
          <a:xfrm>
            <a:off x="6400800" y="3276720"/>
            <a:ext cx="2438280" cy="162720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Es una carro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i carro y gran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1447920" y="2971800"/>
            <a:ext cx="4572000" cy="343044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Es una </a:t>
            </a:r>
            <a:r>
              <a:rPr b="0" lang="es-PR" sz="4400" spc="-1" strike="noStrike">
                <a:solidFill>
                  <a:srgbClr val="dbbd71"/>
                </a:solidFill>
                <a:latin typeface="Arial"/>
              </a:rPr>
              <a:t>espada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i espada y boñit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5450040" y="1523880"/>
            <a:ext cx="3693960" cy="533412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Es una garaje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i garaje es bell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1828800" y="2657520"/>
            <a:ext cx="5638680" cy="422892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Es un mansion.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i mansion es bonit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0" y="2590920"/>
            <a:ext cx="8667720" cy="426708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Es un garaje.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i garaje increibl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0" y="2438280"/>
            <a:ext cx="9144000" cy="441972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Es una cocina.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i cocina es lujos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0" y="2914560"/>
            <a:ext cx="9144000" cy="394344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Es una sala bello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e gusta mi sal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0" y="2590920"/>
            <a:ext cx="9144000" cy="426708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Mi baño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i baño bell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533520" y="2695680"/>
            <a:ext cx="8610480" cy="416232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Mi cautro es grande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utro es bell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828800" y="2496960"/>
            <a:ext cx="5562720" cy="436104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Mi comedor bello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i comedor y magnifc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533520" y="2867040"/>
            <a:ext cx="7543800" cy="399096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Es una piscina.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i piscna y Bell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80880" y="3200400"/>
            <a:ext cx="6705720" cy="346536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2T13:01:34Z</dcterms:created>
  <dc:creator>fagundeslui</dc:creator>
  <dc:description/>
  <dc:language>en-US</dc:language>
  <cp:lastModifiedBy>fagundeslui</cp:lastModifiedBy>
  <dcterms:modified xsi:type="dcterms:W3CDTF">2012-10-25T17:24:36Z</dcterms:modified>
  <cp:revision>5</cp:revision>
  <dc:subject/>
  <dc:title>La casa del luiz</dc:title>
</cp:coreProperties>
</file>